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7.png" ContentType="image/png"/>
  <Override PartName="/ppt/media/image26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4504-4907-421A-BDF5-1FB2B84AA1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68C7-E8D2-496B-A7B0-0BB0600F7D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D8EA-4EC2-46F9-96E4-B821080139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6D68-95AA-4702-8799-425EA4B52C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268C-99DB-454A-ACAB-85653108E6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6BD0-EA36-442E-A529-56FDE93398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BB96-C720-4164-AB92-A69AC5458A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39BB-B2C7-4D5A-A983-B77AD0BBE5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F985-E482-4D7D-99C6-9CDA937C45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BBA0-6953-459A-953D-0A38BE978F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3047-988C-4AB4-9E42-238BC1E6B8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A001-3910-43CB-B436-CB594B3391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C67C-C36B-4B79-A30A-6A9B2954F7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74F-039C-4A7C-9549-8581C84C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30E-AF22-410A-979E-961954EE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5F6-ECEA-46AC-9420-C5605CBC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6A1-C15C-47EC-B565-4AB262A5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99B6-5A4A-4407-8DE1-DB98E19D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F257-A4BD-45B4-B208-FF73FDD5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109C-C5EE-48A0-89E0-3EF0D0A0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4A6C-50C2-461A-B698-60E3A5EC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BAB0-3D31-44F6-890C-4DE1682F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CEB3-1846-45DE-9000-1EC8F445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4595-7ABF-4107-9A46-212BE44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1F3-C7EE-41DD-A193-0F89E5F9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C5A4-2F3E-4F0F-A1BF-F0F0E7C3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D96A-29AF-4C68-B32F-5B35E961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2DC9-848F-4C33-B578-A20B2561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6F8F-B566-4BC2-9ACA-AEEC7AC3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389B-B38F-4EE0-9F20-1F064853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97F3-188C-4603-AB8F-1A8080D5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BCB2-4EC5-49C4-A9EB-11412E2C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E816-7544-4ABA-A32F-35FB526A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8F32E-8A67-4EA0-A5A2-43D8E303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366C-0BF9-423C-98F8-DF98F7E6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78B-0B9F-4F26-A44F-432C0FF3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D193-C4DF-4D28-8E0D-69615FB9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19DC-B15E-4817-83BF-B79CB199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A107-6AE8-4801-AD5A-4F8F1C95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D81C2-A8E2-4F34-847F-D2C16185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BB9B-CD06-4928-B9D3-C3B72A59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8A90-92CA-4A48-BB0C-54D17F67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A32A-E4FE-4D73-A5A9-E9E44819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681-9D0B-4D55-906D-80B10E4B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A5C-6286-4705-9A15-75D11B3D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B70-BE0B-4683-AB80-9DD17535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BBA-B02B-4DBA-AF2D-88080697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2F8-EDC9-4955-B7D0-390323FF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32E-0CC9-4F61-A4EC-1BBD7484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1483-7EB0-4E1B-A617-496097BCD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8586-8C78-46DF-9E05-D430033AB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8F65-F6D6-4D12-A051-C69E9CF714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bs.org/wgbh/evolution/library/10/4/l_104_03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Evol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Picture 7" descr="nc_Evolution_080103_ms"/>
          <p:cNvPicPr/>
          <p:nvPr/>
        </p:nvPicPr>
        <p:blipFill>
          <a:blip r:embed="rId1"/>
          <a:stretch/>
        </p:blipFill>
        <p:spPr>
          <a:xfrm>
            <a:off x="1523880" y="1828800"/>
            <a:ext cx="57913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Where Do Variations Come From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tic varia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only be passed on if they occur i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gamete (sperm/egg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rces of vari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ut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change in DNA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are “good” and can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assed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exual Reprodu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ossing over of chromosomes (DNA) increases variety in offsp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0" name="Picture 5" descr="misconceptions_beav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urvival of the Fitt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individuals who have certain variations will be able to survive if environment chan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Ex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sease and resistance/i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i-am-legend-poster_001"/>
          <p:cNvPicPr/>
          <p:nvPr/>
        </p:nvPicPr>
        <p:blipFill>
          <a:blip r:embed="rId1"/>
          <a:stretch/>
        </p:blipFill>
        <p:spPr>
          <a:xfrm>
            <a:off x="5257800" y="2438280"/>
            <a:ext cx="29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5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Speci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hose individuals that survived to reproduce, may develop into a new spec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es it happ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productive isol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 population may become separated by a geographical barri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x:  River, mountain range, earthquake,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18" descr="409139aa"/>
          <p:cNvPicPr/>
          <p:nvPr/>
        </p:nvPicPr>
        <p:blipFill>
          <a:blip r:embed="rId1"/>
          <a:stretch/>
        </p:blipFill>
        <p:spPr>
          <a:xfrm>
            <a:off x="0" y="365760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shuswaplake"/>
          <p:cNvPicPr/>
          <p:nvPr/>
        </p:nvPicPr>
        <p:blipFill>
          <a:blip r:embed="rId2"/>
          <a:stretch/>
        </p:blipFill>
        <p:spPr>
          <a:xfrm>
            <a:off x="2362320" y="3462480"/>
            <a:ext cx="6781680" cy="333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22"/>
          <p:cNvGraphicFramePr/>
          <p:nvPr/>
        </p:nvGraphicFramePr>
        <p:xfrm>
          <a:off x="2438280" y="4572000"/>
          <a:ext cx="137160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572000"/>
                    <a:ext cx="13716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23"/>
          <p:cNvGraphicFramePr/>
          <p:nvPr/>
        </p:nvGraphicFramePr>
        <p:xfrm>
          <a:off x="8089920" y="4343400"/>
          <a:ext cx="1054080" cy="12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89920" y="4343400"/>
                    <a:ext cx="10540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671 0.37864 C -0.45452 0.44868 -0.36233 0.51873 -0.27119 0.45562 C -0.18004 0.39251 -0.04549 0.07582 1.66667E-006 -5.77901E-007 E">
                                      <p:cBhvr>
                                        <p:cTn id="217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&#13;Picture 1.png                                                  000A2B16_x0006_bunsen                         C167EDBD:"/>
          <p:cNvPicPr/>
          <p:nvPr/>
        </p:nvPicPr>
        <p:blipFill>
          <a:blip r:embed="rId1"/>
          <a:stretch/>
        </p:blipFill>
        <p:spPr>
          <a:xfrm>
            <a:off x="609480" y="609480"/>
            <a:ext cx="85345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new species of finches develop fr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so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fferences in beak sizes/shap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sult from different environments (food sourc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finch_2"/>
          <p:cNvPicPr/>
          <p:nvPr/>
        </p:nvPicPr>
        <p:blipFill>
          <a:blip r:embed="rId1"/>
          <a:stretch/>
        </p:blipFill>
        <p:spPr>
          <a:xfrm>
            <a:off x="0" y="2197080"/>
            <a:ext cx="739152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 of Darwin’s Theo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Organisms differ; variation is inher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Organisms produce more offspring than surv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Organisms compete for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Organisms with advantages survive to pass those advantages to their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Species alive today are descended with modifications from common ances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Examples of Natural Se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eppered Moth 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in moth color from white to black due to change in their environment from white to bl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ck moth color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“favorable” mu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8" descr="kettlewell-peppered-moth"/>
          <p:cNvPicPr/>
          <p:nvPr/>
        </p:nvPicPr>
        <p:blipFill>
          <a:blip r:embed="rId1"/>
          <a:stretch/>
        </p:blipFill>
        <p:spPr>
          <a:xfrm>
            <a:off x="3124080" y="3809880"/>
            <a:ext cx="6019920" cy="3048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pepperedmothslichen"/>
          <p:cNvPicPr/>
          <p:nvPr/>
        </p:nvPicPr>
        <p:blipFill>
          <a:blip r:embed="rId2"/>
          <a:stretch/>
        </p:blipFill>
        <p:spPr>
          <a:xfrm>
            <a:off x="304920" y="3821040"/>
            <a:ext cx="48006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ntibiotic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biotics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kill bacteria with disea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natural selection, some bacter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t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istant (not affected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tibiotic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ista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ter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ltiply (asexually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soon become the on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acteria a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antibiotics must now be m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pbs.org/wgbh/evolution/library/10/4/l_104_03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"/>
          <p:cNvGraphicFramePr/>
          <p:nvPr/>
        </p:nvGraphicFramePr>
        <p:xfrm>
          <a:off x="1600200" y="1447920"/>
          <a:ext cx="533412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53341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8"/>
          <p:cNvSpPr/>
          <p:nvPr/>
        </p:nvSpPr>
        <p:spPr>
          <a:xfrm>
            <a:off x="4572000" y="533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Bacteria have mutation for re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3200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Treated with Antibio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4723920" y="1600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0" y="48006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d Bacteria survive and pass on good mu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sson 14 Proving Darw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Darwin’s ideas and why they were only gradually accep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some of the evidence that was lac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pages 84 &amp; 8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: # 2, 6,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Charles Darw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ed data and observations to create hypothesis about evol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sh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 the Origin of Spec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aining 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ory of evolu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harlesDarwin"/>
          <p:cNvPicPr/>
          <p:nvPr/>
        </p:nvPicPr>
        <p:blipFill>
          <a:blip r:embed="rId1"/>
          <a:stretch/>
        </p:blipFill>
        <p:spPr>
          <a:xfrm>
            <a:off x="5335560" y="1752480"/>
            <a:ext cx="3808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C:\WINDOWS\Desktop\bio_ch15\bio_ch15_4290.jpg"/>
          <p:cNvPicPr/>
          <p:nvPr/>
        </p:nvPicPr>
        <p:blipFill>
          <a:blip r:embed="rId1"/>
          <a:stretch/>
        </p:blipFill>
        <p:spPr>
          <a:xfrm>
            <a:off x="1143000" y="609480"/>
            <a:ext cx="7799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ima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9" name="Picture 7" descr="&#13;Picture 1.png                                                  000A2B16_x0006_bunsen                         C167EDBD:"/>
          <p:cNvPicPr/>
          <p:nvPr/>
        </p:nvPicPr>
        <p:blipFill>
          <a:blip r:embed="rId1"/>
          <a:stretch/>
        </p:blipFill>
        <p:spPr>
          <a:xfrm>
            <a:off x="1143000" y="1523880"/>
            <a:ext cx="3505320" cy="240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&#13;Picture 2.png                                                  000A2B16_x0006_bunsen                         C167EDBD:"/>
          <p:cNvPicPr/>
          <p:nvPr/>
        </p:nvPicPr>
        <p:blipFill>
          <a:blip r:embed="rId2"/>
          <a:stretch/>
        </p:blipFill>
        <p:spPr>
          <a:xfrm>
            <a:off x="4876920" y="1447920"/>
            <a:ext cx="4267080" cy="2479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&#13;Picture 3.png                                                  000A2B16_x0006_bunsen                         C167EDBD:"/>
          <p:cNvPicPr/>
          <p:nvPr/>
        </p:nvPicPr>
        <p:blipFill>
          <a:blip r:embed="rId3"/>
          <a:stretch/>
        </p:blipFill>
        <p:spPr>
          <a:xfrm>
            <a:off x="1219320" y="411480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&#13;Picture 4.png                                                  000A2B16_x0006_bunsen                         C167EDBD:"/>
          <p:cNvPicPr/>
          <p:nvPr/>
        </p:nvPicPr>
        <p:blipFill>
          <a:blip r:embed="rId4"/>
          <a:stretch/>
        </p:blipFill>
        <p:spPr>
          <a:xfrm>
            <a:off x="4876920" y="4079880"/>
            <a:ext cx="38862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Who Surviv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atural Sele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ose individuals who have favorable variations (from their genes) are able to survive and reproduce successfu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125046333_7123c38e73"/>
          <p:cNvPicPr/>
          <p:nvPr/>
        </p:nvPicPr>
        <p:blipFill>
          <a:blip r:embed="rId1"/>
          <a:stretch/>
        </p:blipFill>
        <p:spPr>
          <a:xfrm>
            <a:off x="4876920" y="3649680"/>
            <a:ext cx="4267080" cy="3208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Sonoran1"/>
          <p:cNvPicPr/>
          <p:nvPr/>
        </p:nvPicPr>
        <p:blipFill>
          <a:blip r:embed="rId2"/>
          <a:stretch/>
        </p:blipFill>
        <p:spPr>
          <a:xfrm>
            <a:off x="0" y="3718080"/>
            <a:ext cx="47242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Conditions for Natural Se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verproduc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every species produces more individuals than will surv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ects, fish, dandel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SalticidInsectEggs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365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23484866"/>
          <p:cNvPicPr/>
          <p:nvPr/>
        </p:nvPicPr>
        <p:blipFill>
          <a:blip r:embed="rId2"/>
          <a:stretch/>
        </p:blipFill>
        <p:spPr>
          <a:xfrm>
            <a:off x="4952880" y="3200400"/>
            <a:ext cx="3962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Tahoma"/>
              </a:rPr>
              <a:t>2.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Struggle for Surviv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individuals within a species will compete for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Ex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vironmental conditions: foo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space, water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BXP58614"/>
          <p:cNvPicPr/>
          <p:nvPr/>
        </p:nvPicPr>
        <p:blipFill>
          <a:blip r:embed="rId1"/>
          <a:stretch/>
        </p:blipFill>
        <p:spPr>
          <a:xfrm>
            <a:off x="5105520" y="2971800"/>
            <a:ext cx="3809880" cy="3886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nimalBehavior2"/>
          <p:cNvPicPr/>
          <p:nvPr/>
        </p:nvPicPr>
        <p:blipFill>
          <a:blip r:embed="rId2"/>
          <a:stretch/>
        </p:blipFill>
        <p:spPr>
          <a:xfrm>
            <a:off x="0" y="3137040"/>
            <a:ext cx="464832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Adaptation (adaptive value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ny genetic trait that helps an organism survive, compete, and reproduce better than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Ex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rasshoppers with longer le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ions with sharper tee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katydidleftside"/>
          <p:cNvPicPr/>
          <p:nvPr/>
        </p:nvPicPr>
        <p:blipFill>
          <a:blip r:embed="rId1"/>
          <a:stretch/>
        </p:blipFill>
        <p:spPr>
          <a:xfrm>
            <a:off x="0" y="3475080"/>
            <a:ext cx="5181480" cy="3382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orned_lizard_Navajo_camo"/>
          <p:cNvPicPr/>
          <p:nvPr/>
        </p:nvPicPr>
        <p:blipFill>
          <a:blip r:embed="rId2"/>
          <a:stretch/>
        </p:blipFill>
        <p:spPr>
          <a:xfrm>
            <a:off x="5105520" y="350532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20:20:05Z</dcterms:created>
  <dc:creator>mguido</dc:creator>
  <dc:description/>
  <dc:language>en-US</dc:language>
  <cp:lastModifiedBy>USUARIO</cp:lastModifiedBy>
  <dcterms:modified xsi:type="dcterms:W3CDTF">2012-10-24T20:16:33Z</dcterms:modified>
  <cp:revision>96</cp:revision>
  <dc:subject/>
  <dc:title>Evolution</dc:title>
</cp:coreProperties>
</file>